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CF17-E676-45D4-8F68-F0044F69906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2DEF-36D5-4D1A-A560-9F2994A9FA1A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4A9-5BFE-4208-891D-1C695A4B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EE4-17CB-4B39-A075-7E844FA0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DAA-33F7-4C7D-99C9-A0128326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A1F2-ABF5-42D3-ABB0-608AC5C5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0D92-970E-4094-8D68-D6FB8863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BC19-1BAB-41C5-8C0B-3E363805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C3D0-8495-4619-905A-1DC0D8C6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3CC1-21B6-41B0-867C-DF534E0E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AA24-B776-4E42-9FCC-17BA5FBF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BC97-F627-4127-988B-57E69F2C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FB2B-5FB3-4F3C-B7C2-B9173C6A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A2B7-FBA6-44CD-9ABD-FB87C6AF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D529-DD97-4EBA-B027-76030740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A425-0EB2-4CB3-9D0D-EFDD0081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7DA4-D23A-44A5-9EEC-3CF8FA98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3CA7-5B1E-464C-BE1E-6F5D4777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BE38-CD56-4DF3-8BB0-2D12B9E0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0C1A-6A70-44C2-A701-2C759E8D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DB5-9665-4B81-8B52-5FA798C0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B84-94C1-492F-A99F-ECC41947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489-927E-4BAE-8DD6-886D5676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0C4-989E-4536-9971-A6D92B46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33A-03D3-4091-B502-08EC1CBC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EE45-34A1-4FA0-832D-6F9B2EBF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Šibenik, 19. lipnja 2009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D11D-AF0B-4CCE-A4C5-8F4827CE7BEC}" type="slidenum">
              <a:rPr b="0" lang="hr-H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Šibenik, 19. lipnja 2009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C6AF-FCFE-4DD5-928C-273D1B18B5A7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Основне струковне студ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/>
          <p:cNvSpPr/>
          <p:nvPr/>
        </p:nvSpPr>
        <p:spPr>
          <a:xfrm>
            <a:off x="1835280" y="3357720"/>
            <a:ext cx="55450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15. наставна јединица (петнаеста недеља)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омуникација у здравств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5879520" y="599760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Доц. др Владимир Јањ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87B3-9108-4363-BDAB-C51B29DD491E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6320" y="-3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SzPct val="7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ограничен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средств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з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здравствену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заштиту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неодговарајућ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организациј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рад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управљањ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могу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такође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отежат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постизање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договор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a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гласност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те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погодоват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настанку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подржавању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непријатељске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комуникације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чак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мобинг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-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B70F-7C27-4B83-B34B-CCDADC6FA9DE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91440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строг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хијерархијск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структур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недовољно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одређене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логе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двосмислене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које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сукобљавај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извршењ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радних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задатак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недостатак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јасних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правил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рад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нејасн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правил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понашањ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претеран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радн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оптерећењ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–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обељежј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с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кој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главном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описуј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стројство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рад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здравственим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становам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8E00-053F-404B-9604-A94E17F6F2CC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991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стојањим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тог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рилагодног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амоодржавањ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амо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д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ристајемо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односи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тресов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его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их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ам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весно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ил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роизводимо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Радник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од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тресом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мож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огрешан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чин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доживе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тумачи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очекивањ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других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односу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рем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властитом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онашању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Мож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омета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друг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оштова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оцијалн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орм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ради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еодговарајућ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чин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тим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као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одговор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изазва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вој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арадник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д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одговор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падом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њег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EEF2-0DDB-4700-A3F0-0ED0F70275E0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пречавањем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егативн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комуникациј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пречава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могућност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астанка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треса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ослу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одстиче ефикасност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385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385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385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385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702E-FA95-4683-96CA-CCDE24C49CA2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5909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Како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побољшати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комуникацију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у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тиму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здравствене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неге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?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DFC1-3A17-4E93-B86A-A170FF61C679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мплементарност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муницирањ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темељ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ризнавању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азличитост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адржајном нивоу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иметричност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рихватању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једнакост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соб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јом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муницира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дносн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већ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нањ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тручност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једн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соб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н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мел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ит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азлог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ретварањ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друг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соб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асивн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бјект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75A7-98C3-455D-A00C-37038BB82223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Ак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а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шаље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жели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имат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рук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ак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а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говори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ис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тањ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лушат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,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 комуникациј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једносмерн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карактерисан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заповедни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омаловажавајући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односо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ем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арадниц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         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пошиљалац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                                          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слушала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ужн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едуслов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квалитетн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комуникациј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здравствено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тим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двосмерн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комуникациј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гд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аговорниц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одашиљ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имај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рук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добијај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зитивн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л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егативн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вратн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нформациј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          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пошиљалац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                                          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слушала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2514600"/>
            <a:ext cx="3200400" cy="5335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457200" y="5715000"/>
            <a:ext cx="3200400" cy="5335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638680" y="5715000"/>
            <a:ext cx="3200400" cy="5335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5562720" y="2514600"/>
            <a:ext cx="3200400" cy="5335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4191120" y="2590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4191120" y="57150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1598-F1E3-4976-85B0-A6209CA0CDCB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Важна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карактеристика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комуникације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конструктивност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односно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деструктив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533520" y="1447920"/>
            <a:ext cx="40384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                </a:t>
            </a: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Конструк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t</a:t>
            </a: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ив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n</a:t>
            </a: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а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комуни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k</a:t>
            </a: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ац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i</a:t>
            </a: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ј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23"/>
          <p:cNvSpPr/>
          <p:nvPr/>
        </p:nvSpPr>
        <p:spPr>
          <a:xfrm>
            <a:off x="4572000" y="1447920"/>
            <a:ext cx="42670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Destruktiv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komunikac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24"/>
          <p:cNvSpPr/>
          <p:nvPr/>
        </p:nvSpPr>
        <p:spPr>
          <a:xfrm>
            <a:off x="533520" y="22096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креати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25"/>
          <p:cNvSpPr/>
          <p:nvPr/>
        </p:nvSpPr>
        <p:spPr>
          <a:xfrm>
            <a:off x="4572000" y="2209680"/>
            <a:ext cx="4267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није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креати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26"/>
          <p:cNvSpPr/>
          <p:nvPr/>
        </p:nvSpPr>
        <p:spPr>
          <a:xfrm>
            <a:off x="533520" y="3581280"/>
            <a:ext cx="4038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саговорници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се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поштуј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27"/>
          <p:cNvSpPr/>
          <p:nvPr/>
        </p:nvSpPr>
        <p:spPr>
          <a:xfrm>
            <a:off x="4572000" y="266688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лажн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28"/>
          <p:cNvSpPr/>
          <p:nvPr/>
        </p:nvSpPr>
        <p:spPr>
          <a:xfrm>
            <a:off x="533520" y="2666880"/>
            <a:ext cx="4038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концентрисана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на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решење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пробле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4572000" y="3581280"/>
            <a:ext cx="4267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непоштен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груб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533520" y="4267080"/>
            <a:ext cx="4038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признају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се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различит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32"/>
          <p:cNvSpPr/>
          <p:nvPr/>
        </p:nvSpPr>
        <p:spPr>
          <a:xfrm>
            <a:off x="533520" y="4952880"/>
            <a:ext cx="4038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дозвољава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се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неслаг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33"/>
          <p:cNvSpPr/>
          <p:nvPr/>
        </p:nvSpPr>
        <p:spPr>
          <a:xfrm>
            <a:off x="533520" y="5638680"/>
            <a:ext cx="4038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разговор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је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отворен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и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тактич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4572000" y="4267080"/>
            <a:ext cx="42670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троши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се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енергиј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н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оптужив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вређ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збуњив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игнорис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121B-258F-41C4-9416-8D24E27959E4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аговорник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обезвређује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исмејав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присиљав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одбрану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чиме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погоршавају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међуљудски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односи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уместо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решавањ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конкретног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проблем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пораз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аговорник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хват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као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успе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DF36-2C23-427D-950C-6F41ED045F45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брзи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решавање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есугласиц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обл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двосмерно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комуника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лушањ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редовни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звештајим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чиње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редовни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астанц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ихватање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разлик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мишљењ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идржавање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договорен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важавењ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отвореношћ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дрш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верењ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склађивање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тимског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иступ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здравственој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е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914400" y="457200"/>
            <a:ext cx="762012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Georgia"/>
              </a:rPr>
              <a:t>РЕШИМО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Georgia"/>
              </a:rPr>
              <a:t>ТО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Šibenik, 19. lipnja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609F-889B-4572-8438-1EECCA9FE1CB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1676520" y="685800"/>
            <a:ext cx="6553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295280" y="1447920"/>
            <a:ext cx="7010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Georgia"/>
              </a:rPr>
              <a:t>КОМУНИКАЦИЈА</a:t>
            </a: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4000"/>
            </a:br>
            <a:r>
              <a:rPr b="1" i="1" lang="sr-CS" sz="4000" spc="-1" strike="noStrike">
                <a:solidFill>
                  <a:srgbClr val="000000"/>
                </a:solidFill>
                <a:latin typeface="Georgia"/>
              </a:rPr>
              <a:t>У</a:t>
            </a: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Georgia"/>
              </a:rPr>
              <a:t>ЗДРАВСТВ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95288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0000"/>
                </a:solidFill>
                <a:latin typeface="Georgia"/>
              </a:rPr>
              <a:t>Доц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1" i="1" lang="sr-CS" sz="1600" spc="-1" strike="noStrike">
                <a:solidFill>
                  <a:srgbClr val="000000"/>
                </a:solidFill>
                <a:latin typeface="Georgia"/>
              </a:rPr>
              <a:t>Др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sr-CS" sz="1600" spc="-1" strike="noStrike">
                <a:solidFill>
                  <a:srgbClr val="000000"/>
                </a:solidFill>
                <a:latin typeface="Georgia"/>
              </a:rPr>
              <a:t>Владимир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sr-CS" sz="1600" spc="-1" strike="noStrike">
                <a:solidFill>
                  <a:srgbClr val="000000"/>
                </a:solidFill>
                <a:latin typeface="Georgia"/>
              </a:rPr>
              <a:t>Јањић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F09C-95C6-4F3E-AA22-BE0B7A5163F3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НЕ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ЗАБОРАВИТЕ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10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речи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и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фраза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које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би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требали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користити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најмање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једном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дневно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!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EA3C-DDFE-4E09-BC4A-AB46CB00994A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296280" cy="63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ХВАЛА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захвал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з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ажњ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бриг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моћ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ругих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МОЛИМ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исказуј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штовањ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БРАВ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хвал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МОГУ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ЛИ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И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ПОМОЋ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чекај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вас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итај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нуд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сам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моћ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О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СТВАРНО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ЛЕП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римећуј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зитивн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ОПРОСТ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некад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енамерн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вредим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еког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ак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жел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увек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бит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рав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жив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сам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ПРИЧАЈТЕ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МИ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О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ОМ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каж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заинтересованост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ХАЈМО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ЗАЈЕДН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руж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с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уд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ругим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рилик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им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свет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свој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врем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ЗАГРЛ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заборав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важност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одир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ВОЛИМ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редпостав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т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руг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особ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зн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рец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јој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A476-BF8E-412F-A747-2A1098C548FB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5909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Законске обавезе у вези са комуникацијом са пацијентом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6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авни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описи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Регулишу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у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најширем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смислу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рад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на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заштити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и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унапређењу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здравља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тј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подручје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рада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и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активности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медицинских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рад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ењају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д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тицајем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руштвен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економск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ултурн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руг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илик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руштвен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једниц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настоји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заштити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права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интересе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својих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члан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спостављ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спољашња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контрол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над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радом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едицинск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рад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КОН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ДРАВСТВЕНОЈ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ШТ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КОН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АВИМ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АЦИЈЕ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ЗАКОН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ПРАВИМ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ДУШЕВНО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ОБОЛЕЛИХ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РИВИЧН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КО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4000" y="7268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КОНСКА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АВА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АВЕЗЕ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ДРАВСТВЕНИХ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АДНИКА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ДРАВСТВЕНИМ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ТАНОВАМА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Колико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мо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упознат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законским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прави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обавеза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Колико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у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пацијент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здравственим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установа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упознат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прави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обавеза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вим законом уређују се права пацијената приликом коришћења здравствене заштите, начин остваривања права и начин заштите тих права, као и друга питања везана за права, обавезе и одговорности пацијен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Пацијенту се гарантује једнако право на квалитетну и континуирану здравствену зашти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Остваривање овог права заснива се на партнерском односу пацијента као примаоца здравствених услуга и здравственог радника као даваоца здравствених услу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Партнерски однос подразумева међусобно поверење и поштовање између пацијента и здравственог радника на свим нивоима здравствене зашти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Закон се примењује на све здравствене установе, приватну праксу и друга правна л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83772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RS" sz="2200" spc="-1" strike="noStrike">
                <a:solidFill>
                  <a:srgbClr val="ffffff"/>
                </a:solidFill>
                <a:latin typeface="Tahoma"/>
              </a:rPr>
              <a:t>ПРАВО НА ОБАВЕШТЕЊ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има право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да од надлежног здравственог радника благовремено добије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обавештењ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које му је потребно како би донео одлуку да пристане или не пристане на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едложену медицинску меру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авештење из става 1. овог члана обухвата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дијагнозу и прогнозу болести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кратак опис, циљ и корист од предложене медицинск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ере,   време трајања и могуће последице предузимања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дносно непредузимања предложене медицинске мере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врсту и вероватноћу могућих ризика, болне и друг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поредне или трајне последице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4) алтернативне методе лечења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5) могуће промене пацијентовог стања после предузимања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едложене медицинске мере, као и могуће нужне промен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у начину живота пацијената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6) дејство лекова и могуће споредне последице тог дејств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ПРАВО НА ПРИСТАНА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 има право да слободно одлучује о свему што се тиче његовог живота и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дравља, осим у случајевима када то директно угрожава живот и здравље других лиц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Без пристанка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а не сме се, по правилу, над њим предузети никаква медицинска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ер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 може дати пристанак на предложену медицинску меру изричито (усмено или писмено), односно прећутно (ако се није изричито противио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, који је способан за расуђивање,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има право да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едложену медицинску меру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дбиј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чак и у случају када се њоме спасава или одржава његов живот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длежни здравствени радник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дужан ј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да пацијенту укаже на последице његове одлуке о одбијању предложене медицинске мере, и да о томе од пацијента затражи писмену изјаву која се мора чувати у медицинској документацији, а ако пацијент одбије давање писмене изјаве, о томе ће сачинити службену белешку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280" y="907920"/>
            <a:ext cx="88394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ПРАВО НА ПРИСТАНАК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Над пацијентом који је без свести, или из других разлога није у стању да саопшти свој пристанак, хитна медицинска мера може се предузети и без његовог пристанка, о чему ће се обавестити чланови уже породице, увек када је то могућ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Медицинска мера из става 1. овог члана у здравственој установи, предузима се на основу конзилијарног налаз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ПРАВО ДА НА СОПСТВЕНУ ОДГОВОРНОСТ НАПУ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СТАЦИОНАРНУ ЗДРАВСТВЕНУ  УСТАНО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1) Пацијент има право да на сопствену одговорност напусти стационарну здравствену установу, осим у случајевима прописаним посебним законо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2) О намери напуштања стационарне здравствене установе из става 1. овог члана, пацијент је дужан да дâ писмену изјаву, која се чува у медицинској документацији пацијент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3) Податак о напуштању стационарне здравствене установе без најаве пацијента, надлежни здравствени радник обавезан је да упише у медицинску документацију пацијент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B9BC-251A-4AC6-A942-6C89B615368B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“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луша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али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чуј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Чуј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али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разум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Разум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али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рихва</a:t>
            </a:r>
            <a:r>
              <a:rPr b="1" i="1" lang="sr-Latn-CS" sz="3200" spc="-1" strike="noStrike">
                <a:solidFill>
                  <a:srgbClr val="ffff00"/>
                </a:solidFill>
                <a:latin typeface="Georgia"/>
              </a:rPr>
              <a:t>t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рихва</a:t>
            </a:r>
            <a:r>
              <a:rPr b="1" i="1" lang="sr-Latn-CS" sz="3200" spc="-1" strike="noStrike">
                <a:solidFill>
                  <a:srgbClr val="ffff00"/>
                </a:solidFill>
                <a:latin typeface="Georgia"/>
              </a:rPr>
              <a:t>t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a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али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ракт</a:t>
            </a:r>
            <a:r>
              <a:rPr b="1" i="1" lang="sr-Latn-CS" sz="3200" spc="-1" strike="noStrike">
                <a:solidFill>
                  <a:srgbClr val="ffff00"/>
                </a:solidFill>
                <a:latin typeface="Georgia"/>
              </a:rPr>
              <a:t>ikuje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ракти</a:t>
            </a:r>
            <a:r>
              <a:rPr b="1" i="1" lang="sr-Latn-CS" sz="3200" spc="-1" strike="noStrike">
                <a:solidFill>
                  <a:srgbClr val="ffff00"/>
                </a:solidFill>
                <a:latin typeface="Georgia"/>
              </a:rPr>
              <a:t>kuje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о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к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o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лико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дуго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Konrad Loren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Šibenik, 19. lipnja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2F41-88DA-4C31-BD50-E2037D4AA135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-1981080" y="93600"/>
            <a:ext cx="13716000" cy="67644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1752480" y="3733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Оваква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комуникација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br>
              <a:rPr sz="3200"/>
            </a:b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није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ником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потребна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-1676520" y="76320"/>
            <a:ext cx="1082052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6324480" y="2819520"/>
            <a:ext cx="2743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јер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ћ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e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н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претворит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у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990000"/>
                </a:solidFill>
                <a:latin typeface="Georgia"/>
              </a:rPr>
              <a:t>ОВ</a:t>
            </a:r>
            <a:r>
              <a:rPr b="1" i="1" lang="en-US" sz="3200" spc="-1" strike="noStrike">
                <a:solidFill>
                  <a:srgbClr val="990000"/>
                </a:solidFill>
                <a:latin typeface="Georgia"/>
              </a:rPr>
              <a:t>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B5E3-0796-4A1A-B7AB-7DE7920D16EE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Добр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омуникациј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едстављ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едуслов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валитетног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офесионалног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днос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 rot="6105000">
            <a:off x="2405160" y="2166120"/>
            <a:ext cx="1617840" cy="485640"/>
          </a:xfrm>
          <a:custGeom>
            <a:avLst/>
            <a:gdLst>
              <a:gd name="textAreaLeft" fmla="*/ 252720 w 1617840"/>
              <a:gd name="textAreaRight" fmla="*/ 1415880 w 16178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5"/>
          <p:cNvSpPr/>
          <p:nvPr/>
        </p:nvSpPr>
        <p:spPr>
          <a:xfrm rot="4543800">
            <a:off x="5529600" y="2166120"/>
            <a:ext cx="1617840" cy="486000"/>
          </a:xfrm>
          <a:custGeom>
            <a:avLst/>
            <a:gdLst>
              <a:gd name="textAreaLeft" fmla="*/ 252720 w 1617840"/>
              <a:gd name="textAreaRight" fmla="*/ 1415880 w 161784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2120" y="4114800"/>
            <a:ext cx="3581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Здравствени</a:t>
            </a:r>
            <a:r>
              <a:rPr b="1" i="1" lang="sr-Latn-C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радн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4800600" y="4114800"/>
            <a:ext cx="3581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болесник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/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штиће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60948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ашто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важн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добр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омуника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дравств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0" y="17521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муникациј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темељ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ваког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међуљудског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дно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муникцијом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аопштава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еб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друг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остиже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ољ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днос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оверењ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олес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остиже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ољ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днос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другим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апосленим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т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угодно окружење н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адном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мјес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добија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ољ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езултат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ад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дравствен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нег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олес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добија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већ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адовољств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а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1730-14D6-4128-91C1-36CF015AD15C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Знамо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ли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комуницирати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?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666A-3969-4B49-AF39-EC2DBD2D2C67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Најважниј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собин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дравственог</a:t>
            </a:r>
            <a:r>
              <a:rPr b="1" lang="sr-Latn-C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ник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отребн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успешн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омуникациј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тварањ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добрих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днос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у</a:t>
            </a:r>
            <a:r>
              <a:rPr b="1" lang="sr-Latn-C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а</a:t>
            </a:r>
            <a:r>
              <a:rPr b="1" lang="sr-Latn-C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ацијентима</a:t>
            </a:r>
            <a:r>
              <a:rPr b="1" lang="sr-Latn-C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вореност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рдач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амопоузд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збегавањ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тереотипиј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редрас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емпат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активн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луш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асертив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ерсуаз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307D-5780-4EDC-AC5B-108387FFF564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Шта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нам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омета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добру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комуникацију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?</a:t>
            </a: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176D-E082-46E0-B72D-4C0B73C0EDA0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632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дравствених</a:t>
            </a:r>
            <a:r>
              <a:rPr b="1" lang="sr-Latn-C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ник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матр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високо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тресним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већ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бог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ам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његов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ирод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: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адржај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услов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начин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рганизациј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ног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круже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бурн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омен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одручј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ој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тављај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ед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ваког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д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нас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ако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бисмо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пстали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остављај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велик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ахтев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илагођав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175013</dc:creator>
  <dc:description/>
  <dc:language>en-US</dc:language>
  <cp:lastModifiedBy>Slavica</cp:lastModifiedBy>
  <dcterms:modified xsi:type="dcterms:W3CDTF">2017-01-30T06:12:2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